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A011-BE0E-4DD4-97FE-4500942AE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5965-3766-4CFA-B3A3-33279F1FF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FAEE-DE3B-49EC-A01C-93A194B0D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2012-7D92-45D5-9FAA-EFC394E6D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9F4DE-D6FC-4540-B1DD-934F3995F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827CD-C8B1-414D-92C9-ABE28C780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3AAF1-DF28-469D-9387-1AE128902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56E5B-D2EF-42CF-B9A2-592B67A52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0CF61-DB66-49DC-8E61-7248DD928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1B2BF-E6E1-426F-8184-AADE8A595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48749-2A73-492E-9386-00EAD7333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1454-7071-4789-A2F2-FDE75EB6E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C3E85-9E45-4AD5-BFCE-56D142E86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1E81E-72C0-4D05-8136-C93448A8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362DA-A61D-4ECD-AFB8-47814AD02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D9464-CDD4-4B76-B383-CE6BBE893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EEDE3-34E7-480E-A1BD-CCF9789A3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A193-65BF-4C0C-A56C-ED768F49D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D411-F25D-42C0-9F6D-DD7FB16BF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EE1D-E7A9-4334-82ED-1869DB04A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77DB-DB43-49EB-BF2C-AE5F914D0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54C9-F734-490E-ADB4-D4D04536E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7888-6D98-4FF3-BED7-0BCB1A52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45F4-FB45-4782-8182-9511D249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1487D-887F-42C2-815E-595101C0780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32711-A91F-4BBA-8F36-3F10C13D6966}" type="slidenum">
              <a:rPr b="0" lang="ru-RU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0000"/>
                </a:solidFill>
                <a:latin typeface="Arial"/>
              </a:rPr>
              <a:t>ТЕМА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500" spc="-1" strike="noStrike">
                <a:solidFill>
                  <a:srgbClr val="000000"/>
                </a:solidFill>
                <a:latin typeface="Arial"/>
              </a:rPr>
              <a:t>ПОНЯТТЯ І СУТНІСТЬ МЕНЕДЖМЕНТУ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"/>
          <p:cNvSpPr/>
          <p:nvPr/>
        </p:nvSpPr>
        <p:spPr>
          <a:xfrm>
            <a:off x="18720" y="17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6" descr="ANd9GcTCaKoSefXMZneWA3HmbYvmGnOcqt1dC8Qvw8bu5lXgw8CDSciN7A"/>
          <p:cNvPicPr/>
          <p:nvPr/>
        </p:nvPicPr>
        <p:blipFill>
          <a:blip r:embed="rId1"/>
          <a:stretch/>
        </p:blipFill>
        <p:spPr>
          <a:xfrm>
            <a:off x="324000" y="1341360"/>
            <a:ext cx="7561080" cy="399096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76360" y="188640"/>
            <a:ext cx="744048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000000"/>
                </a:solidFill>
                <a:latin typeface="Arial"/>
              </a:rPr>
              <a:t>Характеристика організації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324000" y="1342080"/>
            <a:ext cx="849600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Arial"/>
              </a:rPr>
              <a:t>Наявність принаймні двох осіб;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Arial"/>
              </a:rPr>
              <a:t>Наявність спільної мети;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Arial"/>
              </a:rPr>
              <a:t>Розподіл праці;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Arial"/>
              </a:rPr>
              <a:t>Наявність ресурсів;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Arial"/>
              </a:rPr>
              <a:t>Наявність результату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8" name="TextBox 6"/>
          <p:cNvSpPr/>
          <p:nvPr/>
        </p:nvSpPr>
        <p:spPr>
          <a:xfrm>
            <a:off x="19440" y="17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000000"/>
                </a:solidFill>
                <a:latin typeface="Arial"/>
              </a:rPr>
              <a:t>Рівні менеджменту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Рисунок 3" descr="D:\Documents and Settings\Admin.VIP\Мои документы\Мои рисунки\1.gif"/>
          <p:cNvPicPr/>
          <p:nvPr/>
        </p:nvPicPr>
        <p:blipFill>
          <a:blip r:embed="rId1"/>
          <a:stretch/>
        </p:blipFill>
        <p:spPr>
          <a:xfrm>
            <a:off x="468360" y="1557360"/>
            <a:ext cx="8136000" cy="4854600"/>
          </a:xfrm>
          <a:prstGeom prst="rect">
            <a:avLst/>
          </a:prstGeom>
          <a:ln w="0">
            <a:noFill/>
          </a:ln>
        </p:spPr>
      </p:pic>
      <p:sp>
        <p:nvSpPr>
          <p:cNvPr id="152" name="TextBox 6"/>
          <p:cNvSpPr/>
          <p:nvPr/>
        </p:nvSpPr>
        <p:spPr>
          <a:xfrm>
            <a:off x="10800" y="17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000000"/>
                </a:solidFill>
                <a:latin typeface="Arial"/>
              </a:rPr>
              <a:t>1.3 Менеджмент як вид професійної діяльності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5"/>
          <p:cNvSpPr/>
          <p:nvPr/>
        </p:nvSpPr>
        <p:spPr>
          <a:xfrm>
            <a:off x="19440" y="17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771640" y="190440"/>
            <a:ext cx="57628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000000"/>
                </a:solidFill>
                <a:latin typeface="Arial"/>
              </a:rPr>
              <a:t>МЕНЕДЖЕР - це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842920" y="1484280"/>
            <a:ext cx="5715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людина, що професійно займається управлінською діяльністю, що повсякденно керує функціями фірми з метою збереження її основних пропорцій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людина, наділена повноваженнями приймати управлінські рішення і здійснювати їхнє виконанн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time-management"/>
          <p:cNvPicPr/>
          <p:nvPr/>
        </p:nvPicPr>
        <p:blipFill>
          <a:blip r:embed="rId1"/>
          <a:stretch/>
        </p:blipFill>
        <p:spPr>
          <a:xfrm>
            <a:off x="0" y="0"/>
            <a:ext cx="2114640" cy="2565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ANd9GcTortGv_gP_g57Desx0AKYpC_B8JzKccGsqobDWL_-HM-TYBCdMaw"/>
          <p:cNvPicPr/>
          <p:nvPr/>
        </p:nvPicPr>
        <p:blipFill>
          <a:blip r:embed="rId2"/>
          <a:stretch/>
        </p:blipFill>
        <p:spPr>
          <a:xfrm>
            <a:off x="0" y="2637000"/>
            <a:ext cx="2843280" cy="1858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entrant-2"/>
          <p:cNvPicPr/>
          <p:nvPr/>
        </p:nvPicPr>
        <p:blipFill>
          <a:blip r:embed="rId3"/>
          <a:stretch/>
        </p:blipFill>
        <p:spPr>
          <a:xfrm>
            <a:off x="0" y="4554360"/>
            <a:ext cx="3203640" cy="2303640"/>
          </a:xfrm>
          <a:prstGeom prst="rect">
            <a:avLst/>
          </a:prstGeom>
          <a:ln w="0">
            <a:noFill/>
          </a:ln>
        </p:spPr>
      </p:pic>
      <p:sp>
        <p:nvSpPr>
          <p:cNvPr id="161" name="TextBox 8"/>
          <p:cNvSpPr/>
          <p:nvPr/>
        </p:nvSpPr>
        <p:spPr>
          <a:xfrm>
            <a:off x="19440" y="17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Відповідно до точки зору Н. Ладанова, сучасний менеджер виступає в системі суспільного виробництва в декількох ролях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■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"керуючий"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■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"дипломат"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■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"лідер"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■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"вихователь"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■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"інноватор"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■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"людська істота"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19440" y="17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7" descr="5"/>
          <p:cNvPicPr/>
          <p:nvPr/>
        </p:nvPicPr>
        <p:blipFill>
          <a:blip r:embed="rId1"/>
          <a:stretch/>
        </p:blipFill>
        <p:spPr>
          <a:xfrm>
            <a:off x="611280" y="1484280"/>
            <a:ext cx="8064360" cy="482436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8"/>
          <p:cNvSpPr/>
          <p:nvPr/>
        </p:nvSpPr>
        <p:spPr>
          <a:xfrm>
            <a:off x="1547640" y="333000"/>
            <a:ext cx="7128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олі менеджера в організації 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(за Мінцбергом)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7" name="TextBox 5"/>
          <p:cNvSpPr/>
          <p:nvPr/>
        </p:nvSpPr>
        <p:spPr>
          <a:xfrm>
            <a:off x="19440" y="17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1" i="1" lang="ru-RU" sz="4200" spc="-1" strike="noStrike" u="sng">
                <a:solidFill>
                  <a:srgbClr val="000000"/>
                </a:solidFill>
                <a:uFillTx/>
                <a:latin typeface="Arial"/>
              </a:rPr>
              <a:t>Якості, необхідні успішному менеджеру</a:t>
            </a:r>
            <a:r>
              <a:rPr b="0" lang="ru-RU" sz="4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131640" y="1916280"/>
            <a:ext cx="5402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технічні здібності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аналітичні здібності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діагностичні здібності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здатність взаємодіяти з людьми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концептуальні здібності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5" descr="ANd9GcTXdPQVL3-WGeLJ_-5ln84V8NXvEVG5_Nms5QVT0hMkZ4cTnsMKhg"/>
          <p:cNvPicPr/>
          <p:nvPr/>
        </p:nvPicPr>
        <p:blipFill>
          <a:blip r:embed="rId1"/>
          <a:stretch/>
        </p:blipFill>
        <p:spPr>
          <a:xfrm>
            <a:off x="0" y="1628640"/>
            <a:ext cx="2843280" cy="1830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ANd9GcQPvzBSy8mgTkVn-pbJ53LpZCC3JrIzitkhGLLrJIJGMOo04-iu"/>
          <p:cNvPicPr/>
          <p:nvPr/>
        </p:nvPicPr>
        <p:blipFill>
          <a:blip r:embed="rId2"/>
          <a:stretch/>
        </p:blipFill>
        <p:spPr>
          <a:xfrm>
            <a:off x="0" y="3429000"/>
            <a:ext cx="2843280" cy="18622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9" descr="ANd9GcTZzi7QxrhrEZ3jrUr_-OnJ4_dxNDCnCe_Jb2ZZYhLjgNvUB1HDuQ"/>
          <p:cNvPicPr/>
          <p:nvPr/>
        </p:nvPicPr>
        <p:blipFill>
          <a:blip r:embed="rId3"/>
          <a:stretch/>
        </p:blipFill>
        <p:spPr>
          <a:xfrm>
            <a:off x="0" y="5076720"/>
            <a:ext cx="2843280" cy="1781280"/>
          </a:xfrm>
          <a:prstGeom prst="rect">
            <a:avLst/>
          </a:prstGeom>
          <a:ln w="0">
            <a:noFill/>
          </a:ln>
        </p:spPr>
      </p:pic>
      <p:sp>
        <p:nvSpPr>
          <p:cNvPr id="173" name="TextBox 8"/>
          <p:cNvSpPr/>
          <p:nvPr/>
        </p:nvSpPr>
        <p:spPr>
          <a:xfrm>
            <a:off x="19440" y="17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Рисунок 4" descr="D:\Documents and Settings\Admin.VIP\Мои документы\Мои рисунки\2.gif"/>
          <p:cNvPicPr/>
          <p:nvPr/>
        </p:nvPicPr>
        <p:blipFill>
          <a:blip r:embed="rId1"/>
          <a:stretch/>
        </p:blipFill>
        <p:spPr>
          <a:xfrm>
            <a:off x="324000" y="404640"/>
            <a:ext cx="7777080" cy="484668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5"/>
          <p:cNvSpPr/>
          <p:nvPr/>
        </p:nvSpPr>
        <p:spPr>
          <a:xfrm>
            <a:off x="971640" y="5444640"/>
            <a:ext cx="7127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піввідношення необхідних якостей до управлінського рівня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6" name="TextBox 5"/>
          <p:cNvSpPr/>
          <p:nvPr/>
        </p:nvSpPr>
        <p:spPr>
          <a:xfrm>
            <a:off x="19440" y="17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47640" y="691920"/>
            <a:ext cx="7010640" cy="323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500" spc="-1" strike="noStrike">
                <a:solidFill>
                  <a:srgbClr val="000000"/>
                </a:solidFill>
                <a:latin typeface="Arial"/>
              </a:rPr>
              <a:t>ДЯКУЮ ЗА УВАГУ!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4"/>
          <p:cNvSpPr/>
          <p:nvPr/>
        </p:nvSpPr>
        <p:spPr>
          <a:xfrm>
            <a:off x="19440" y="17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000000"/>
                </a:solidFill>
                <a:latin typeface="Arial"/>
              </a:rPr>
              <a:t>Перелік питань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1.1 Еволюція поглядів на сутність менеджмент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1.2. Організація як об’єкт управлінн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Arial"/>
              </a:rPr>
              <a:t>1.3 Менеджмент як вид професійної діяльності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5"/>
          <p:cNvSpPr/>
          <p:nvPr/>
        </p:nvSpPr>
        <p:spPr>
          <a:xfrm>
            <a:off x="18720" y="17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000000"/>
                </a:solidFill>
                <a:latin typeface="Arial"/>
              </a:rPr>
              <a:t>1.1 Еволюція поглядів на сутність менеджменту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1" descr="D:\Documents and Settings\Admin.VIP\Мои документы\Мои рисунки\1.gif"/>
          <p:cNvPicPr/>
          <p:nvPr/>
        </p:nvPicPr>
        <p:blipFill>
          <a:blip r:embed="rId1"/>
          <a:stretch/>
        </p:blipFill>
        <p:spPr>
          <a:xfrm>
            <a:off x="1258920" y="1760400"/>
            <a:ext cx="7200720" cy="4621320"/>
          </a:xfrm>
          <a:prstGeom prst="rect">
            <a:avLst/>
          </a:prstGeom>
          <a:ln w="0">
            <a:noFill/>
          </a:ln>
        </p:spPr>
      </p:pic>
      <p:sp>
        <p:nvSpPr>
          <p:cNvPr id="98" name="TextBox 5"/>
          <p:cNvSpPr/>
          <p:nvPr/>
        </p:nvSpPr>
        <p:spPr>
          <a:xfrm>
            <a:off x="18720" y="17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476000" y="227664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“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правління”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енеджмент”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дміністрування”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“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ерування” тощо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1547280" y="476280"/>
            <a:ext cx="7596360" cy="17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Для визначення діяльності з координації роботи людей на практиці використовують різні поняття: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8720" y="17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3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4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5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6" name="AutoShape 1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07" name="Picture 17" descr="ANd9GcSTu4h33WQsmzObg2RQDqoNg9uWkJ2XDRSy1or_8g1paxFO9kHB"/>
          <p:cNvPicPr/>
          <p:nvPr/>
        </p:nvPicPr>
        <p:blipFill>
          <a:blip r:embed="rId1"/>
          <a:stretch/>
        </p:blipFill>
        <p:spPr>
          <a:xfrm>
            <a:off x="0" y="0"/>
            <a:ext cx="2916360" cy="21844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8"/>
          <p:cNvSpPr/>
          <p:nvPr/>
        </p:nvSpPr>
        <p:spPr>
          <a:xfrm>
            <a:off x="3276720" y="404280"/>
            <a:ext cx="5472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ЕНЕДЖМЕНТ – від лат. “manus” – рука 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9" name="Rectangle 19"/>
          <p:cNvSpPr/>
          <p:nvPr/>
        </p:nvSpPr>
        <p:spPr>
          <a:xfrm>
            <a:off x="3059280" y="2904840"/>
            <a:ext cx="5767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ЕНЕДЖМЕНТ - це спосіб, манера спілкування з людьми 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0" name="AutoShape 2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1" name="AutoShape 2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2" name="AutoShape 2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3" name="AutoShape 2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14" name="Picture 29" descr="ANd9GcSrmSWtubqhyECO3_4rc9c8sM-z_xNV7gUw804oFFWHj2FxSWTP"/>
          <p:cNvPicPr/>
          <p:nvPr/>
        </p:nvPicPr>
        <p:blipFill>
          <a:blip r:embed="rId2"/>
          <a:stretch/>
        </p:blipFill>
        <p:spPr>
          <a:xfrm>
            <a:off x="0" y="2205000"/>
            <a:ext cx="2916360" cy="217656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30"/>
          <p:cNvSpPr/>
          <p:nvPr/>
        </p:nvSpPr>
        <p:spPr>
          <a:xfrm>
            <a:off x="3203640" y="4365720"/>
            <a:ext cx="54007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ЕНЕДЖМЕНТ - це вміння та адміністративні навички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рганізовувати ефективну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оботу апарату організації 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16" name="Picture 32" descr="ANd9GcTK-BYLDfj4QrC1U_Z_UVYqy1LjhgEJFo8Mex_vJiN1MOGiED3w"/>
          <p:cNvPicPr/>
          <p:nvPr/>
        </p:nvPicPr>
        <p:blipFill>
          <a:blip r:embed="rId3"/>
          <a:stretch/>
        </p:blipFill>
        <p:spPr>
          <a:xfrm>
            <a:off x="0" y="4365720"/>
            <a:ext cx="2916360" cy="1958760"/>
          </a:xfrm>
          <a:prstGeom prst="rect">
            <a:avLst/>
          </a:prstGeom>
          <a:ln w="0">
            <a:noFill/>
          </a:ln>
        </p:spPr>
      </p:pic>
      <p:sp>
        <p:nvSpPr>
          <p:cNvPr id="117" name="TextBox 18"/>
          <p:cNvSpPr/>
          <p:nvPr/>
        </p:nvSpPr>
        <p:spPr>
          <a:xfrm>
            <a:off x="18720" y="17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3421440" y="1051920"/>
            <a:ext cx="5407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ЕНЕДЖМЕНТ - це влада та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истецтво управління 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9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0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21" name="Picture 11" descr="ANd9GcSiGhKQJuBe7B4mv278ZQ9EsN3DTbgfZ9nZLagwIKafL4UVIZhuFw"/>
          <p:cNvPicPr/>
          <p:nvPr/>
        </p:nvPicPr>
        <p:blipFill>
          <a:blip r:embed="rId1"/>
          <a:stretch/>
        </p:blipFill>
        <p:spPr>
          <a:xfrm>
            <a:off x="0" y="0"/>
            <a:ext cx="3132000" cy="31320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12"/>
          <p:cNvSpPr/>
          <p:nvPr/>
        </p:nvSpPr>
        <p:spPr>
          <a:xfrm>
            <a:off x="3419640" y="3357360"/>
            <a:ext cx="52308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ЕНЕДЖМЕНТ - це органи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правління,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дміністративні одиниці,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ідрозділи 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23" name="Picture 14" descr="ANd9GcSSsljH1l47OB1oYYvueW9VaWDXinVbX6o4vHcQjaH2Srk-seVCgQ"/>
          <p:cNvPicPr/>
          <p:nvPr/>
        </p:nvPicPr>
        <p:blipFill>
          <a:blip r:embed="rId2"/>
          <a:stretch/>
        </p:blipFill>
        <p:spPr>
          <a:xfrm>
            <a:off x="0" y="3141720"/>
            <a:ext cx="3290760" cy="3456000"/>
          </a:xfrm>
          <a:prstGeom prst="rect">
            <a:avLst/>
          </a:prstGeom>
          <a:ln w="0">
            <a:noFill/>
          </a:ln>
        </p:spPr>
      </p:pic>
      <p:sp>
        <p:nvSpPr>
          <p:cNvPr id="124" name="TextBox 9"/>
          <p:cNvSpPr/>
          <p:nvPr/>
        </p:nvSpPr>
        <p:spPr>
          <a:xfrm>
            <a:off x="18720" y="17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7" descr="ANd9GcQAfeZiipCFRc10kUaw9XF_QuO18LH3BTgnjs8x2c7RqlcXmYOMPQ"/>
          <p:cNvPicPr/>
          <p:nvPr/>
        </p:nvPicPr>
        <p:blipFill>
          <a:blip r:embed="rId1"/>
          <a:stretch/>
        </p:blipFill>
        <p:spPr>
          <a:xfrm>
            <a:off x="5867280" y="3933720"/>
            <a:ext cx="3276720" cy="25923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520" y="190080"/>
            <a:ext cx="7296120" cy="367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000000"/>
                </a:solidFill>
                <a:latin typeface="Arial"/>
              </a:rPr>
              <a:t>Менеджмент</a:t>
            </a:r>
            <a:r>
              <a:rPr b="0" lang="ru-RU" sz="4200" spc="-1" strike="noStrike">
                <a:solidFill>
                  <a:srgbClr val="000000"/>
                </a:solidFill>
                <a:latin typeface="Arial"/>
              </a:rPr>
              <a:t> - це вміння досягати поставлених цілей, використовуючи працю, інтелект та мотиви поведінки інших людей 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ANd9GcTFzSjr0J43VQZ3t841-am28SKrpoo1xhjsbL3YyJP9rbzfeRbv"/>
          <p:cNvPicPr/>
          <p:nvPr/>
        </p:nvPicPr>
        <p:blipFill>
          <a:blip r:embed="rId2"/>
          <a:stretch/>
        </p:blipFill>
        <p:spPr>
          <a:xfrm>
            <a:off x="2916360" y="3500280"/>
            <a:ext cx="3708360" cy="31179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ANd9GcQg6pF13KbKQ17DyE7cUkV4vYMHHLtcZREIHCTyI__FrieGA1U6"/>
          <p:cNvPicPr/>
          <p:nvPr/>
        </p:nvPicPr>
        <p:blipFill>
          <a:blip r:embed="rId3"/>
          <a:stretch/>
        </p:blipFill>
        <p:spPr>
          <a:xfrm>
            <a:off x="0" y="3716280"/>
            <a:ext cx="2754360" cy="287964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1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0" name="AutoShape 1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1" name="TextBox 9"/>
          <p:cNvSpPr/>
          <p:nvPr/>
        </p:nvSpPr>
        <p:spPr>
          <a:xfrm>
            <a:off x="18720" y="17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000000"/>
                </a:solidFill>
                <a:latin typeface="Arial"/>
              </a:rPr>
              <a:t>1.2. Організація як об’єкт управління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4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5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6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7" name="AutoShape 1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38" name="Picture 15" descr="ANd9GcQkjBuvmBlDEFEgswvMDTwTCmNXL2K8QUcEzhEqXf8Z__chY8wPaA"/>
          <p:cNvPicPr/>
          <p:nvPr/>
        </p:nvPicPr>
        <p:blipFill>
          <a:blip r:embed="rId1"/>
          <a:stretch/>
        </p:blipFill>
        <p:spPr>
          <a:xfrm>
            <a:off x="179280" y="1700280"/>
            <a:ext cx="3745080" cy="374472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6"/>
          <p:cNvSpPr/>
          <p:nvPr/>
        </p:nvSpPr>
        <p:spPr>
          <a:xfrm>
            <a:off x="4140360" y="1688040"/>
            <a:ext cx="453528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Честер Бернард: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Організація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- група людей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діяльність яких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відомо координується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для досягнення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загальної мети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або спільних цілей” 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0" name="TextBox 11"/>
          <p:cNvSpPr/>
          <p:nvPr/>
        </p:nvSpPr>
        <p:spPr>
          <a:xfrm>
            <a:off x="18720" y="17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76360" y="188640"/>
            <a:ext cx="744048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Загальна системна модель організації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189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43" name="Рисунок 2" descr="D:\Documents and Settings\Admin.VIP\Мои документы\Мои рисунки\1.gif"/>
          <p:cNvPicPr/>
          <p:nvPr/>
        </p:nvPicPr>
        <p:blipFill>
          <a:blip r:embed="rId1"/>
          <a:stretch/>
        </p:blipFill>
        <p:spPr>
          <a:xfrm>
            <a:off x="179280" y="1628640"/>
            <a:ext cx="8713800" cy="4822920"/>
          </a:xfrm>
          <a:prstGeom prst="rect">
            <a:avLst/>
          </a:prstGeom>
          <a:ln w="0">
            <a:noFill/>
          </a:ln>
        </p:spPr>
      </p:pic>
      <p:sp>
        <p:nvSpPr>
          <p:cNvPr id="144" name="TextBox 6"/>
          <p:cNvSpPr/>
          <p:nvPr/>
        </p:nvSpPr>
        <p:spPr>
          <a:xfrm>
            <a:off x="18720" y="17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01T12:26:57Z</dcterms:created>
  <dc:creator>Менеджер</dc:creator>
  <dc:description/>
  <dc:language>en-US</dc:language>
  <cp:lastModifiedBy>User</cp:lastModifiedBy>
  <dcterms:modified xsi:type="dcterms:W3CDTF">2016-03-13T17:10:29Z</dcterms:modified>
  <cp:revision>3</cp:revision>
  <dc:subject/>
  <dc:title>ТЕМА 1</dc:title>
</cp:coreProperties>
</file>